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90FB-2FE2-48F1-9431-78855CD71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4511-D7F8-4E21-87C2-63C91A7C1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FD33-CE1D-4280-A975-3E2AA2D4C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5747-0ADA-4670-8159-2BC67816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35D5-C445-475A-B22C-5821162CF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FAFE-80C0-4AD5-9496-83DB270FD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F8D9-DF5B-4682-B2CE-189A343A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B4C9-7F52-4597-A2DD-3D069404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D8F9-8F60-428C-95B9-8CED0328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AB7B-9279-4827-B7A9-12023D9A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B82B-9963-4061-9909-082F7ECB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6D2F-B95E-4337-9026-B56BA59F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CEC6-34F9-4F9B-A9C8-2917F84F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C43B-436A-454D-9FFC-6864F257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0F5F-BA0E-4FE4-A31F-C78C134CE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533520" y="304920"/>
            <a:ext cx="81532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ffff"/>
                    </a:gs>
                    <a:gs pos="100000">
                      <a:srgbClr val="506464"/>
                    </a:gs>
                  </a:gsLst>
                  <a:lin ang="5400000"/>
                </a:gradFill>
                <a:latin typeface="Times New Roman"/>
              </a:rPr>
              <a:t>Volcanoes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ffff"/>
                  </a:gs>
                  <a:gs pos="100000">
                    <a:srgbClr val="506464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2971800" y="4114800"/>
            <a:ext cx="3333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66ff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by Ms. Powell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0066ff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Century Gothic"/>
                <a:ea typeface="Arial"/>
              </a:rPr>
              <a:t>Questions that you have already answe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324480" y="1905120"/>
            <a:ext cx="2819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hat causes a volcano erup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j0074331.mid" descr=""/>
          <p:cNvPicPr/>
          <p:nvPr/>
        </p:nvPicPr>
        <p:blipFill>
          <a:blip r:embed="rId1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380880" y="1752480"/>
            <a:ext cx="259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ow are volcanoes are form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971800" y="4724280"/>
            <a:ext cx="586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ow may volcanic eruptions change land formati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8" descr="C:\Documents and Settings\student.ETC\Local Settings\Temporary Internet Files\Content.IE5\J15BG4G8\MC900057935[1].wmf"/>
          <p:cNvPicPr/>
          <p:nvPr/>
        </p:nvPicPr>
        <p:blipFill>
          <a:blip r:embed="rId2"/>
          <a:stretch/>
        </p:blipFill>
        <p:spPr>
          <a:xfrm>
            <a:off x="3581280" y="2438280"/>
            <a:ext cx="159552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2"/>
          <p:cNvSpPr/>
          <p:nvPr/>
        </p:nvSpPr>
        <p:spPr>
          <a:xfrm>
            <a:off x="1143000" y="1600200"/>
            <a:ext cx="7086600" cy="3581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1295280" y="1752480"/>
            <a:ext cx="6782040" cy="33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You, together with a partner, will research a volcanic eruption from hi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You will discuss the type of volcano and its geographic lo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You will discuss aspects of the eruption  to include, time of day, range, destructive aspects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609480" y="5410080"/>
            <a:ext cx="79250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 begin this endeavor, we have to ask other ques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WordArt 16"/>
          <p:cNvSpPr txBox="1"/>
          <p:nvPr/>
        </p:nvSpPr>
        <p:spPr>
          <a:xfrm>
            <a:off x="1143000" y="685800"/>
            <a:ext cx="7010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ere Is the CHALLENGE!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resentation Challeng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7720" y="22860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ign a Powerpoint, Wiki page, or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ectronic newsletter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3" descr="C:\Documents and Settings\student.ETC\Local Settings\Temporary Internet Files\Content.IE5\ZG5WPXXD\MC900323338[1].wmf"/>
          <p:cNvPicPr/>
          <p:nvPr/>
        </p:nvPicPr>
        <p:blipFill>
          <a:blip r:embed="rId1"/>
          <a:stretch/>
        </p:blipFill>
        <p:spPr>
          <a:xfrm>
            <a:off x="304920" y="3505320"/>
            <a:ext cx="29383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-76680"/>
            <a:ext cx="50292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Present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FD00730_"/>
          <p:cNvPicPr/>
          <p:nvPr/>
        </p:nvPicPr>
        <p:blipFill>
          <a:blip r:embed="rId1"/>
          <a:stretch/>
        </p:blipFill>
        <p:spPr>
          <a:xfrm>
            <a:off x="4952880" y="152280"/>
            <a:ext cx="3002040" cy="30481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0"/>
          <p:cNvSpPr/>
          <p:nvPr/>
        </p:nvSpPr>
        <p:spPr>
          <a:xfrm>
            <a:off x="457200" y="1523880"/>
            <a:ext cx="39625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nation of the volcano eru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or scanned pho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ussion—introduction, design process, troubleshooting, challenge results, and final thou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4343400" y="3352680"/>
            <a:ext cx="4572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to landfo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ations for design and other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2T18:41:04Z</dcterms:created>
  <dc:creator>ECC</dc:creator>
  <dc:description/>
  <dc:language>en-US</dc:language>
  <cp:lastModifiedBy>student</cp:lastModifiedBy>
  <dcterms:modified xsi:type="dcterms:W3CDTF">2010-07-16T16:44:01Z</dcterms:modified>
  <cp:revision>30</cp:revision>
  <dc:subject/>
  <dc:title>PowerPoint Presentation</dc:title>
</cp:coreProperties>
</file>