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BCA6-E91C-4C28-A4C9-8F702B32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DE53-EB0E-4859-B526-17E6CD076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7A3-2DB8-43F1-8D81-9AF6DAA2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B13-3C18-44E2-9122-E8000AB3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492-6EB3-4C8B-95BA-FD04DA8A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EEF-978B-4A44-B8CB-6E4CF125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9CE-36D5-4DF6-A9EA-3E1E7AD8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E5C-5433-4008-9076-2AEB681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9B7-120D-430A-BCDB-D021FDE7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D09-FA15-4407-A4A0-5AA7C45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57C-DA47-494B-9755-90CCB768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0CD-F7D3-4418-9F83-7D6B99E0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148-3FCC-4758-A7FC-7E8607E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FF5-947B-4839-BDB3-292F625B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22C0-7031-44E7-8C58-5941AF038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06464"/>
                    </a:gs>
                  </a:gsLst>
                  <a:lin ang="5400000"/>
                </a:gradFill>
                <a:latin typeface="Times New Roman"/>
              </a:rPr>
              <a:t>Volcano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0646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971800" y="41148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y Ms. Powel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Gothic"/>
                <a:ea typeface="Arial"/>
              </a:rPr>
              <a:t>Questions that you have already answ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24480" y="1905120"/>
            <a:ext cx="281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causes a volcano erup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0074331.mid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17524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are volcanoes are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1800" y="472428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may volcanic eruptions change land form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C:\Documents and Settings\student.ETC\Local Settings\Temporary Internet Files\Content.IE5\J15BG4G8\MC900057935[1].wmf"/>
          <p:cNvPicPr/>
          <p:nvPr/>
        </p:nvPicPr>
        <p:blipFill>
          <a:blip r:embed="rId2"/>
          <a:stretch/>
        </p:blipFill>
        <p:spPr>
          <a:xfrm>
            <a:off x="3581280" y="2438280"/>
            <a:ext cx="15955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"/>
          <p:cNvSpPr/>
          <p:nvPr/>
        </p:nvSpPr>
        <p:spPr>
          <a:xfrm>
            <a:off x="1143000" y="1600200"/>
            <a:ext cx="7086600" cy="3581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95280" y="1752480"/>
            <a:ext cx="678204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, together with a partner, will research a volcanic eruption from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the type of volcano and its geographic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aspects of the eruption  to include, time of day, range, destructive aspec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09480" y="5410080"/>
            <a:ext cx="7925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gin this endeavor, we have to ask oth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e Is the CHALLENG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esentation Challeng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a Powerpoint, Wiki page, or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onic newslett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C:\Documents and Settings\student.ETC\Local Settings\Temporary Internet Files\Content.IE5\ZG5WPXXD\MC900323338[1].wmf"/>
          <p:cNvPicPr/>
          <p:nvPr/>
        </p:nvPicPr>
        <p:blipFill>
          <a:blip r:embed="rId1"/>
          <a:stretch/>
        </p:blipFill>
        <p:spPr>
          <a:xfrm>
            <a:off x="304920" y="3505320"/>
            <a:ext cx="2938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FD00730_"/>
          <p:cNvPicPr/>
          <p:nvPr/>
        </p:nvPicPr>
        <p:blipFill>
          <a:blip r:embed="rId1"/>
          <a:stretch/>
        </p:blipFill>
        <p:spPr>
          <a:xfrm>
            <a:off x="4952880" y="152280"/>
            <a:ext cx="300204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457200" y="1523880"/>
            <a:ext cx="3962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the volcano eru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or scanned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—introduction, design process, troubleshooting, challenge results, and final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343400" y="33526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land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s for design and othe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student</cp:lastModifiedBy>
  <dcterms:modified xsi:type="dcterms:W3CDTF">2010-07-16T16:44:01Z</dcterms:modified>
  <cp:revision>30</cp:revision>
  <dc:subject/>
  <dc:title>PowerPoint Presentation</dc:title>
</cp:coreProperties>
</file>