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DDB1-65EF-46A4-8EA1-51675255C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F13E-36EB-42A3-904A-4217DE0D8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9173-B69F-422C-940A-AA268F46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FA11-001F-4B88-8BBE-5DA03B95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0793-C738-4469-BFA4-40BCA9CA5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A3F4-F0DE-47CB-BF3C-28CB7930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67ED-1598-4F29-9869-5EB2FADB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93E0-565F-4A3F-B575-37CC2748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7EAF-7D6E-4B3E-9FC1-582A1503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7543-6D50-44DB-9110-7D8B0521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5114-0050-48CA-8253-3B676EDC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71D3-284A-4C1A-A494-4A8B451C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8199-B873-4E2C-8DD9-8B4B182F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3D8A-FDB3-4774-9E47-ACBB1623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3553-B74B-45AB-A82D-A6F157DC5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533520" y="304920"/>
            <a:ext cx="81532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ffff"/>
                    </a:gs>
                    <a:gs pos="100000">
                      <a:srgbClr val="506464"/>
                    </a:gs>
                  </a:gsLst>
                  <a:lin ang="5400000"/>
                </a:gradFill>
                <a:latin typeface="Times New Roman"/>
              </a:rPr>
              <a:t>Volcanoes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ffff"/>
                  </a:gs>
                  <a:gs pos="100000">
                    <a:srgbClr val="506464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2971800" y="4114800"/>
            <a:ext cx="3333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66ff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by Ms. Powell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0066ff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Century Gothic"/>
                <a:ea typeface="Arial"/>
              </a:rPr>
              <a:t>Questions that you have already answe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324480" y="1905120"/>
            <a:ext cx="2819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hat causes a volcano erup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j0074331.mid" descr=""/>
          <p:cNvPicPr/>
          <p:nvPr/>
        </p:nvPicPr>
        <p:blipFill>
          <a:blip r:embed="rId1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380880" y="1752480"/>
            <a:ext cx="25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ow are volcanoes are form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971800" y="4724280"/>
            <a:ext cx="586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ow may volcanic eruptions change land forma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8" descr="C:\Documents and Settings\student.ETC\Local Settings\Temporary Internet Files\Content.IE5\J15BG4G8\MC900057935[1].wmf"/>
          <p:cNvPicPr/>
          <p:nvPr/>
        </p:nvPicPr>
        <p:blipFill>
          <a:blip r:embed="rId2"/>
          <a:stretch/>
        </p:blipFill>
        <p:spPr>
          <a:xfrm>
            <a:off x="3581280" y="2438280"/>
            <a:ext cx="159552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2"/>
          <p:cNvSpPr/>
          <p:nvPr/>
        </p:nvSpPr>
        <p:spPr>
          <a:xfrm>
            <a:off x="1143000" y="1600200"/>
            <a:ext cx="7086600" cy="3581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295280" y="1752480"/>
            <a:ext cx="6782040" cy="33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You, together with a partner, will research a volcanic eruption from hi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You will discuss the type of volcano and its geographic lo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You will discuss aspects of the eruption  to include, time of day, range, destructive aspect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609480" y="5410080"/>
            <a:ext cx="79250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 begin this endeavor, we have to ask other ques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WordArt 16"/>
          <p:cNvSpPr txBox="1"/>
          <p:nvPr/>
        </p:nvSpPr>
        <p:spPr>
          <a:xfrm>
            <a:off x="1143000" y="685800"/>
            <a:ext cx="7010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ere Is the CHALLENGE!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resentation Challeng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22860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ign a Powerpoint, Wiki page, or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ectronic newsletter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3" descr="C:\Documents and Settings\student.ETC\Local Settings\Temporary Internet Files\Content.IE5\ZG5WPXXD\MC900323338[1].wmf"/>
          <p:cNvPicPr/>
          <p:nvPr/>
        </p:nvPicPr>
        <p:blipFill>
          <a:blip r:embed="rId1"/>
          <a:stretch/>
        </p:blipFill>
        <p:spPr>
          <a:xfrm>
            <a:off x="304920" y="3505320"/>
            <a:ext cx="29383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50292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Present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FD00730_"/>
          <p:cNvPicPr/>
          <p:nvPr/>
        </p:nvPicPr>
        <p:blipFill>
          <a:blip r:embed="rId1"/>
          <a:stretch/>
        </p:blipFill>
        <p:spPr>
          <a:xfrm>
            <a:off x="4952880" y="152280"/>
            <a:ext cx="3002040" cy="30481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0"/>
          <p:cNvSpPr/>
          <p:nvPr/>
        </p:nvSpPr>
        <p:spPr>
          <a:xfrm>
            <a:off x="457200" y="1523880"/>
            <a:ext cx="39625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nation of the volcano eru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or scanned pho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ion—introduction, design process, troubleshooting, challenge results, and final thou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4343400" y="3352680"/>
            <a:ext cx="4572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to land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ations for design and other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18:41:04Z</dcterms:created>
  <dc:creator>ECC</dc:creator>
  <dc:description/>
  <dc:language>en-US</dc:language>
  <cp:lastModifiedBy>student</cp:lastModifiedBy>
  <dcterms:modified xsi:type="dcterms:W3CDTF">2010-07-16T16:44:01Z</dcterms:modified>
  <cp:revision>30</cp:revision>
  <dc:subject/>
  <dc:title>PowerPoint Presentation</dc:title>
</cp:coreProperties>
</file>