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5900-3674-4A3C-AEFA-2D685C6EE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4EE9-84F7-4019-8906-FDE609CCB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E39-B184-41C0-B23A-8EF4C415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58C-8EE9-46CA-A6CE-E9094104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25F-A665-41E5-81F9-99099B5C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5C5-5248-47E1-A2DC-9BE88BB7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0B6B-E4E5-47DC-BF04-021E4C1E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2AC4-53FF-4B10-8772-8122BE32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D3DA-EFEA-4854-98C9-46126CDE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8D7-B48A-4D65-B943-FC055D41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EC7-BB15-4575-9F12-2EE971BF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41F-B256-45E0-B7B7-5FA1122E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4981-087E-41D1-8D1C-980A381D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FCD-5787-4E5A-889F-1D29BE78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8BCB-519D-46DD-9220-549881DB5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533520" y="304920"/>
            <a:ext cx="81532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ff"/>
                    </a:gs>
                    <a:gs pos="100000">
                      <a:srgbClr val="506464"/>
                    </a:gs>
                  </a:gsLst>
                  <a:lin ang="5400000"/>
                </a:gradFill>
                <a:latin typeface="Times New Roman"/>
              </a:rPr>
              <a:t>Volcanoes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ff"/>
                  </a:gs>
                  <a:gs pos="100000">
                    <a:srgbClr val="506464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2971800" y="4114800"/>
            <a:ext cx="333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by Ms. Powell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entury Gothic"/>
                <a:ea typeface="Arial"/>
              </a:rPr>
              <a:t>Questions that you have already answe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324480" y="1905120"/>
            <a:ext cx="2819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at causes a volcano erup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j0074331.mid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80880" y="175248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are volcanoes are form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71800" y="472428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may volcanic eruptions change land form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C:\Documents and Settings\student.ETC\Local Settings\Temporary Internet Files\Content.IE5\J15BG4G8\MC900057935[1].wmf"/>
          <p:cNvPicPr/>
          <p:nvPr/>
        </p:nvPicPr>
        <p:blipFill>
          <a:blip r:embed="rId2"/>
          <a:stretch/>
        </p:blipFill>
        <p:spPr>
          <a:xfrm>
            <a:off x="3581280" y="2438280"/>
            <a:ext cx="15955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2"/>
          <p:cNvSpPr/>
          <p:nvPr/>
        </p:nvSpPr>
        <p:spPr>
          <a:xfrm>
            <a:off x="1143000" y="1600200"/>
            <a:ext cx="7086600" cy="3581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295280" y="1752480"/>
            <a:ext cx="678204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ou, together with a partner, will research a volcanic eruption from hi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ou will discuss the type of volcano and its geographic 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ou will discuss aspects of the eruption  to include, time of day, range, destructive aspect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09480" y="5410080"/>
            <a:ext cx="79250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 begin this endeavor, we have to ask other ques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WordArt 16"/>
          <p:cNvSpPr txBox="1"/>
          <p:nvPr/>
        </p:nvSpPr>
        <p:spPr>
          <a:xfrm>
            <a:off x="1143000" y="685800"/>
            <a:ext cx="7010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re Is the CHALLENGE!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resentation Challeng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ign a Powerpoint, Wiki page, or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ctronic newsletter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3" descr="C:\Documents and Settings\student.ETC\Local Settings\Temporary Internet Files\Content.IE5\ZG5WPXXD\MC900323338[1].wmf"/>
          <p:cNvPicPr/>
          <p:nvPr/>
        </p:nvPicPr>
        <p:blipFill>
          <a:blip r:embed="rId1"/>
          <a:stretch/>
        </p:blipFill>
        <p:spPr>
          <a:xfrm>
            <a:off x="304920" y="3505320"/>
            <a:ext cx="29383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5029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Present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FD00730_"/>
          <p:cNvPicPr/>
          <p:nvPr/>
        </p:nvPicPr>
        <p:blipFill>
          <a:blip r:embed="rId1"/>
          <a:stretch/>
        </p:blipFill>
        <p:spPr>
          <a:xfrm>
            <a:off x="4952880" y="152280"/>
            <a:ext cx="3002040" cy="30481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457200" y="1523880"/>
            <a:ext cx="39625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 of the volcano eru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or scanned ph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—introduction, design process, troubleshooting, challenge results, and final th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4343400" y="335268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to land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ations for design and other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8:41:04Z</dcterms:created>
  <dc:creator>ECC</dc:creator>
  <dc:description/>
  <dc:language>en-US</dc:language>
  <cp:lastModifiedBy>student</cp:lastModifiedBy>
  <dcterms:modified xsi:type="dcterms:W3CDTF">2010-07-16T16:44:01Z</dcterms:modified>
  <cp:revision>30</cp:revision>
  <dc:subject/>
  <dc:title>PowerPoint Presentation</dc:title>
</cp:coreProperties>
</file>