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2DD-806C-4A04-9699-93F41E0E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E47-0FD9-4B49-A7D2-D3FE755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867-41BA-4049-940F-FC5F4BF3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43D-965D-4096-9E13-27DFD4A8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480-F91A-439C-8630-9108208F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689-8FF2-4269-846A-DE61BD9F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C95-595A-4BF8-BE44-94D27333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821-0E3A-4038-B5F5-E5DD876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D3C-96DC-4B07-8A02-B5C2BED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FA4-9B1D-4AD8-BFA1-F9539EC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B90-81B4-4E1A-8167-3F70191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53B-CF89-4EA8-8D08-6E57722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58C6-D5D4-4BCA-A15B-367988252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Shoes Make a “Happily Ever After” Dif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The Stories of Cinderella and Cendril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f Cinderella and Cendrillon had not left their shoes at the ba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nce and Paul would not know how to find them. There would be no “happily ever af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720" y="358092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nderella's glass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6049080" y="358092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’s pink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hoes were special. They were part of a magic gift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inderella’s fairy godmother and from Cendrillon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n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wns, Coaches, Horses, Footmen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all gowns were pretty. It was cool to make a coach from a squash. Then the godmothers made horses footmen from rod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58316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2560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The Cinderella and Cendrillon stories are alike, but they are also diffe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How the Story Is Different in 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is on the island of Martinique, not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have French names. They use French words for food like fru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 pain (breadfrui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nin turns agouti, field lizards, and a manicou into horses, coachman, and footmen. These animals live on Martin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dress differently. They have pretty silk scarves, turbans, and lots of beads and brace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Adding country differences to the story makes it interes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Cinderella and Cendril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n stepsisters and stepm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ores around the house 24/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utiful but humble—dressed in dirty clot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 k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n willing to help steps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ves happily ever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lue velvet gown with a rose shoulder scarf and turban with a “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ink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aul’s birthda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all gowns like queens wear and a tiara of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Glass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Dance given for the pr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inde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Most importantly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The point of both stories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Our goodness will always overcome the problems aroun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erella and Cendril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happy to help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ll chores the stepmoms asked them to do (with a little extra help from fri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miles that bring sunshine to a rain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kind to everyone—people an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ETC</cp:lastModifiedBy>
  <dcterms:modified xsi:type="dcterms:W3CDTF">2010-06-02T02:36:45Z</dcterms:modified>
  <cp:revision>41</cp:revision>
  <dc:subject/>
  <dc:title>Yes, Shoes Can Make a Difference!</dc:title>
</cp:coreProperties>
</file>