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437-A506-4509-9A0C-09ADA686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C57-8515-41A0-B82B-8D859D8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5C1-BE8D-40F3-B45B-7A6E3609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099-CE1F-45DB-9F80-5A85F8BF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6C3-B7B7-4329-B9E2-A69A60BA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B75-589F-4E6D-88FA-BD57058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002-B05F-4DAE-B1B5-D999770B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A62-38D4-4892-9A3B-06B04502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BAA-432C-4A8B-8789-C51811A5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603-6760-406C-A1D9-2815BD8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595-ECED-42C2-AE06-536B06B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A3A-01DC-414E-9EA1-4ADA6BD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AD4-863A-40AA-B4DE-BF8392A93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Shoes Make a “Happily Ever After” Diff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. . The Stories of Cinderella and Cendril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f Cinderella and Cendrillon had not left their shoes at the bal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nce and Paul would not know how to find them. There would be no “happily ever aft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9151400">
            <a:off x="720" y="3580920"/>
            <a:ext cx="34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nderella's glass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236200">
            <a:off x="6049080" y="3580920"/>
            <a:ext cx="32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’s pink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hoes were special. They were part of a magic gift 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inderella’s fairy godmother and from Cendrillon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nn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0868600">
            <a:off x="3504960" y="236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wns, Coaches, Horses, Footmen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ball gowns were pretty. It was cool to make a coach from a squash. Then the godmothers made horses footmen from rod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58316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7080" y="2560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The Cinderella and Cendrillon stories are alike, but they are also differ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Arial"/>
              </a:rPr>
              <a:t>How the Story Is Different in Cendril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ry is on the island of Martinique, not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s have French names. They use French words for food like fru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 pain (breadfrui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nin turns agouti, field lizards, and a manicou into horses, coachman, and footmen. These animals live on Martin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dress differently. They have pretty silk scarves, turbans, and lots of beads and bracel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Adding country differences to the story makes it interest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Cinderella and Cendril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133720"/>
            <a:ext cx="464796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981080"/>
            <a:ext cx="464796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981080"/>
            <a:ext cx="464832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9360" y="1494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2800" y="1935000"/>
            <a:ext cx="287964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an stepsisters and stepm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ores around the house 24/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utiful but humble—dressed in dirty clot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 k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n willing to help steps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ives happily ever 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51460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lue velvet gown with a rose shoulder scarf and turban with a “tremblant”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ink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aul’s birthda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90920"/>
            <a:ext cx="317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all gowns like queens wear and a tiara of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Glass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Dance given for the pr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inde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Most importantly,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The point of both stories. .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257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Our goodness will always overcome the problems aroun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nderella and Cendril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happy to help 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ll chores the stepmoms asked them to do (with a little extra help from frie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smiles that bring sunshine to a rain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kind to everyone—people and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22:47:52Z</dcterms:created>
  <dc:creator> </dc:creator>
  <dc:description/>
  <dc:language>en-US</dc:language>
  <cp:lastModifiedBy>ETC</cp:lastModifiedBy>
  <dcterms:modified xsi:type="dcterms:W3CDTF">2010-06-02T02:36:45Z</dcterms:modified>
  <cp:revision>41</cp:revision>
  <dc:subject/>
  <dc:title>Yes, Shoes Can Make a Difference!</dc:title>
</cp:coreProperties>
</file>