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4.wmf" ContentType="image/x-wmf"/>
  <Override PartName="/ppt/media/image2.gif" ContentType="image/gif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DA22-4D10-4C12-BC2B-0922FDD5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319-703A-4F93-A98F-571BDF76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6A3F-B847-4B06-A76E-75F823B9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5F2-0ECE-429B-B301-730DBD77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0D6-D617-4678-A4E6-90AB6E40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CBA7-9FEE-4B62-B039-1D0370EA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20AF-158B-450A-BC00-388BA790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EE5B-E9B2-4631-AF22-C6024EE4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EE5A-96C3-4AC3-9095-665EC0BA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159C-8042-4FC3-9CA3-BFFBFD39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A02-6EAC-4124-AD07-2809D398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DB8-AB86-470F-8EA0-942B980F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1F11-7109-4FC4-9E68-A7B53E0BD5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Arial"/>
              </a:rPr>
              <a:t>Shoes Make a “Happily Ever After” Differ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 . . The Stories of Cinderella and Cendril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f Cinderella and Cendrillon had not left their shoes at the ball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4864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nce and Paul would not know how to find them. There would be no “happily ever aft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00400" y="22096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19151400">
            <a:off x="720" y="3580920"/>
            <a:ext cx="34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Cinderella's glass sli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236200">
            <a:off x="6049080" y="3580920"/>
            <a:ext cx="32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endrillon’s pink sli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hoes were special. They were part of a magic gift . .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5181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Cinderella’s fairy godmother and from Cendrillon’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nn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20868600">
            <a:off x="3504960" y="23619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wns, Coaches, Horses, Footmen. .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ball gowns were pretty. It was cool to make a coach from a squash. Then the godmothers made horses footmen from rodent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62320" y="1752480"/>
            <a:ext cx="4583160" cy="33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7080" y="25603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The Cinderella and Cendrillon stories are alike, but they are also differ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cc"/>
                </a:solidFill>
                <a:latin typeface="Arial"/>
              </a:rPr>
              <a:t>How the Story Is Different in Cendrill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ory is on the island of Martinique, not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s have French names. They use French words for food like frui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 pain (breadfruit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nin turns agouti, field lizards, and a manicou into horses, coachman, and footmen. These animals live on Martiniq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dress differently. They have pretty silk scarves, turbans, and lots of beads and bracel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715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Adding country differences to the story makes it interesti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Arial"/>
              </a:rPr>
              <a:t>Cinderella and Cendrill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2133720"/>
            <a:ext cx="4647960" cy="4114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981080"/>
            <a:ext cx="4647960" cy="411480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1981080"/>
            <a:ext cx="4648320" cy="411480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19360" y="1494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5334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257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22800" y="1935000"/>
            <a:ext cx="287964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ean stepsisters and stepm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hores around the house 24/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eautiful but humble—dressed in dirty clot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o ki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ven willing to help steps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ives happily ever af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2514600"/>
            <a:ext cx="2971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Blue velvet gown with a rose shoulder scarf and turban with a “tremblant” je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Pink sli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Paul’s birthday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590920"/>
            <a:ext cx="31701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Ball gowns like queens wear and a tiara of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Glass sli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Dance given for the pr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72480" y="3199320"/>
            <a:ext cx="41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nhances understanding of s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72480" y="3199320"/>
            <a:ext cx="41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nhances understanding of s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057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inder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endri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Arial"/>
              </a:rPr>
              <a:t>Most importantly,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Arial"/>
              </a:rPr>
              <a:t>The point of both stories. .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52578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Our goodness will always overcome the problems aroun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nderella and Cendrill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re happy to help every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all chores the stepmoms asked them to do (with a little extra help from frie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smiles that bring sunshine to a rainy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re kind to everyone—people and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22:47:52Z</dcterms:created>
  <dc:creator> </dc:creator>
  <dc:description/>
  <dc:language>en-US</dc:language>
  <cp:lastModifiedBy>ETC</cp:lastModifiedBy>
  <dcterms:modified xsi:type="dcterms:W3CDTF">2010-06-02T02:36:45Z</dcterms:modified>
  <cp:revision>41</cp:revision>
  <dc:subject/>
  <dc:title>Yes, Shoes Can Make a Difference!</dc:title>
</cp:coreProperties>
</file>