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475-ADCB-44B9-BC26-2958BD82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065-3522-4DC0-AE55-25A3A5AB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08E-3416-44EA-9A3E-923262FF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2E1-335A-4AC7-92AC-00B255F1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D1E-1F72-47ED-8C46-AF6D2D86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2B7-AA7A-4157-9638-3264965A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BD4-B190-46A9-9560-703E9710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6CA-4331-4405-BBE6-4A96E459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445-15F2-46A3-BCA4-E5A0DE27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CE8-7B74-4391-9150-9F282AEF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7F2-6129-4FE5-A5BB-5DD281BB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F57-B088-4F45-A1E2-A9815CFD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96ED-BF48-40A0-80A1-8D9F0313ED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Shoes Make a “Happily Ever After” Differ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 . . The Stories of Cinderella and Cendril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f Cinderella and Cendrillon had not left their shoes at the bal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4864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nce and Paul would not know how to find them. There would be no “happily ever aft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9151400">
            <a:off x="720" y="3580920"/>
            <a:ext cx="34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Cinderella's glass sli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236200">
            <a:off x="6049080" y="3580920"/>
            <a:ext cx="32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endrillon’s pink sli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hoes were special. They were part of a magic gift . .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181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Cinderella’s fairy godmother and from Cendrillon’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nn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20868600">
            <a:off x="3504960" y="23619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wns, Coaches, Horses, Footmen. .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ball gowns were pretty. It was cool to make a coach from a squash. Then the godmothers made horses footmen from rodent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583160" cy="33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7080" y="25603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The Cinderella and Cendrillon stories are alike, but they are also differ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cc"/>
                </a:solidFill>
                <a:latin typeface="Arial"/>
              </a:rPr>
              <a:t>How the Story Is Different in Cendrill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ory is on the island of Martinique, not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s have French names. They use French words for food like frui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 pain (breadfruit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nin turns agouti, field lizards, and a manicou into horses, coachman, and footmen. These animals live on Martini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dress differently. They have pretty silk scarves, turbans, and lots of beads and bracel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Adding country differences to the story makes it interest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Cinderella and Cendrill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2133720"/>
            <a:ext cx="464796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981080"/>
            <a:ext cx="4647960" cy="41148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1981080"/>
            <a:ext cx="4648320" cy="41148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19360" y="1494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5334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257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22800" y="1935000"/>
            <a:ext cx="287964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an stepsisters and stepm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hores around the house 24/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autiful but humble—dressed in dirty clot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o ki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ven willing to help steps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ives happily ever af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2514600"/>
            <a:ext cx="2971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Blue velvet gown with a rose shoulder scarf and turban with a “tremblant” je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Pink sli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Paul’s birthda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590920"/>
            <a:ext cx="31701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Ball gowns like queens wear and a tiara of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Glass sli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ff"/>
                </a:solidFill>
                <a:latin typeface="Times New Roman"/>
              </a:rPr>
              <a:t>Dance given for the pr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72480" y="319932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nhances understanding of 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72480" y="319932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nhances understanding of 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inder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endri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Most importantly,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The point of both stories. .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2578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Our goodness will always overcome the problems aroun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nderella and Cendrill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re happy to help every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all chores the stepmoms asked them to do (with a little extra help from frie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smiles that bring sunshine to a rainy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re kind to everyone—people and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22:47:52Z</dcterms:created>
  <dc:creator> </dc:creator>
  <dc:description/>
  <dc:language>en-US</dc:language>
  <cp:lastModifiedBy>ETC</cp:lastModifiedBy>
  <dcterms:modified xsi:type="dcterms:W3CDTF">2010-06-02T02:36:45Z</dcterms:modified>
  <cp:revision>41</cp:revision>
  <dc:subject/>
  <dc:title>Yes, Shoes Can Make a Difference!</dc:title>
</cp:coreProperties>
</file>