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871-E7F7-496C-AA64-4CC48D39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C5A-CC79-45B5-BF9E-C7C62397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0AB-C553-4B14-A3A6-EA27230F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528-E30C-447F-ADBA-37413FC7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F05-604E-4FBE-912D-891CE2BC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316-EC55-4AB9-8C4E-E6B2DC4B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027-ACFE-4A74-8B51-EA4CDBC1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880-2699-4CE3-89FA-003F2D23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59B-99E9-40E8-A3DD-EAA14742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F08-5EB8-4E6F-A61E-1D64F998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7C7-228C-4C07-8E48-004AD8D4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E47-115D-418B-8A25-2D3CEBB4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7689-EACD-4958-BEF7-1B2456C5F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762120" y="1371600"/>
            <a:ext cx="7543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Be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Sequ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Detective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fter the game, we traded some baseball cards, and then he said he wanted to ask me something.  After he finished talking, we walked to the bus st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After the game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, we traded some baseball cards, and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then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he said he wanted to ask me something. 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After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he finished talking, we walked to the bus st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The next morning, I was able to answer his question.  My parents said that I would go to his family’s apartment to have dinner with him on his birthday, December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The next morning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, I was able to answer his question.  My parents said that I would go to his family’s apartment to have dinner with him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on his birthday, December 6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85800" y="68580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entury Gothic"/>
              </a:rPr>
              <a:t>Sequence</a:t>
            </a: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 is the order in which events happen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85800" y="68580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Certain words can be </a:t>
            </a:r>
            <a:r>
              <a:rPr b="1" lang="en-US" sz="8000" spc="-1" strike="noStrike">
                <a:solidFill>
                  <a:srgbClr val="ffff00"/>
                </a:solidFill>
                <a:latin typeface="Century Gothic"/>
              </a:rPr>
              <a:t>sequence clues</a:t>
            </a: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85800" y="685800"/>
            <a:ext cx="792468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Time-Order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fir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nex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t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fina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60948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Time-Order Expre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in the mo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ft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ater that 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two weeks l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60948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Other Time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yester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Satur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pr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win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295280"/>
            <a:ext cx="91440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w be a </a:t>
            </a: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sequence detective</a:t>
            </a: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.  See if you can spot the clue words in the following stor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685800"/>
            <a:ext cx="91440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Last Tuesday I met my new friend Mickey.  We were both in a ball game at recess.  I told him he had made a good catch during the game.  Later that day we played in a softball game.  We were on the same team and we w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401760"/>
            <a:ext cx="91440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Last Tuesday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I met my new friend Mickey.  We were both in a ball game at recess.  I told him he had made a good catch during the game. 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Later that day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we played in a softball game.  We were on the same team and we w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2:26:47Z</dcterms:created>
  <dc:creator>Resource User</dc:creator>
  <dc:description/>
  <dc:language>en-US</dc:language>
  <cp:lastModifiedBy>student</cp:lastModifiedBy>
  <dcterms:modified xsi:type="dcterms:W3CDTF">2010-07-15T18:29:37Z</dcterms:modified>
  <cp:revision>2</cp:revision>
  <dc:subject/>
  <dc:title>PowerPoint Presentation</dc:title>
</cp:coreProperties>
</file>