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0DD-BF30-4BE0-B43F-887FB672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46A-085B-4A4F-A096-A24D8302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2D9-8429-44A7-8CB7-E75D59FE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F0D-3B09-420D-86DB-49DB3DE8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E57-8516-49BD-B056-786C8AD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159-4A83-4A48-B657-743A217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3EF-CC22-4AC1-A865-12C077A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962-F2C5-4605-AC07-1C27D32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67E-FD25-4B43-A946-807F3EA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654-582A-4B0B-8CE1-9B08CD9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7E4-4966-4D51-B4E2-260E718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E8B-2472-43CF-AAC7-8E56F69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C1F-DFB0-47D0-8CFF-CD774685D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37160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Sequ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Detectiv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fter the game, we traded some baseball cards, and then he said he wanted to ask me something.  After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 the game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we traded some baseball cards, and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n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said he wanted to ask me something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 next morning, I was able to answer his question.  My parents said that I would go to his family’s apartment to have dinner with him on his birthday, December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 next morning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I was able to answer his question.  My parents said that I would go to his family’s apartment to have dinner with him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n his birthday, December 6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 is the order in which events happ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Certain words can be 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 clues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685800"/>
            <a:ext cx="792468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r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nex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na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Expre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in the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ft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ater that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wo weeks l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Other Tim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yeste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Satu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pr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95280"/>
            <a:ext cx="9144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w be a </a:t>
            </a: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e detectiv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.  See if you can spot the clue words in the following sto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8580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st Tuesday I met my new friend Mickey.  We were both in a ball game at recess.  I told him he had made a good catch during the game.  Later that day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40176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st Tues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I met my new friend Mickey.  We were both in a ball game at recess.  I told him he had made a good catch during the game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ter that 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26:47Z</dcterms:created>
  <dc:creator>Resource User</dc:creator>
  <dc:description/>
  <dc:language>en-US</dc:language>
  <cp:lastModifiedBy>student</cp:lastModifiedBy>
  <dcterms:modified xsi:type="dcterms:W3CDTF">2010-07-15T18:29:37Z</dcterms:modified>
  <cp:revision>2</cp:revision>
  <dc:subject/>
  <dc:title>PowerPoint Presentation</dc:title>
</cp:coreProperties>
</file>