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3FFF-45A2-4D5F-9746-831ECADD8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B8E8-6113-487F-B289-1978D765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25E4-1910-4D94-A049-A4D753E1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5E26-C7DA-4497-8FD0-53703532B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4D90-0A45-4943-A508-3105CD64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0DD2-8AA6-45DB-B373-07A56DDF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66D6-249F-42E2-ADA9-0AB87229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A319-5F59-4A0F-A21C-B995FF54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9EE5-A003-4858-AE20-A15B61DB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D49B-3502-4223-9773-755F3B21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46F1-3248-4914-81CB-B49C89B3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1492-D5C6-4867-81A0-601585E3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B545-200B-4C44-970A-C7DBA7474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762120" y="1371600"/>
            <a:ext cx="75438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Be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Seque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Detective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4479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After the game, we traded some baseball cards, and then he said he wanted to ask me something.  After he finished talking, we walked to the bus sto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14479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After the game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, we traded some baseball cards, and </a:t>
            </a: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then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 he said he wanted to ask me something.  </a:t>
            </a: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After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 he finished talking, we walked to the bus sto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4479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The next morning, I was able to answer his question.  My parents said that I would go to his family’s apartment to have dinner with him on his birthday, December 6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14479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The next morning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, I was able to answer his question.  My parents said that I would go to his family’s apartment to have dinner with him </a:t>
            </a: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on his birthday, December 6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685800" y="685800"/>
            <a:ext cx="7924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Century Gothic"/>
              </a:rPr>
              <a:t>Sequence</a:t>
            </a: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 is the order in which events happen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685800" y="685800"/>
            <a:ext cx="7924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Certain words can be </a:t>
            </a:r>
            <a:r>
              <a:rPr b="1" lang="en-US" sz="8000" spc="-1" strike="noStrike">
                <a:solidFill>
                  <a:srgbClr val="ffff00"/>
                </a:solidFill>
                <a:latin typeface="Century Gothic"/>
              </a:rPr>
              <a:t>sequence clues</a:t>
            </a: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685800" y="685800"/>
            <a:ext cx="7924680" cy="65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entury Gothic"/>
              </a:rPr>
              <a:t>Time-Order Wor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fir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nex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th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final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0" y="609480"/>
            <a:ext cx="9144000" cy="65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entury Gothic"/>
              </a:rPr>
              <a:t>Time-Order Expres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in the mor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after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ater that d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two weeks la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609480"/>
            <a:ext cx="9144000" cy="65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entury Gothic"/>
              </a:rPr>
              <a:t>Other Time Wor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yesterd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Saturd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Apri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win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1295280"/>
            <a:ext cx="914400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Now be a </a:t>
            </a:r>
            <a:r>
              <a:rPr b="1" lang="en-US" sz="6000" spc="-1" strike="noStrike">
                <a:solidFill>
                  <a:srgbClr val="ffff00"/>
                </a:solidFill>
                <a:latin typeface="Century Gothic"/>
              </a:rPr>
              <a:t>sequence detective</a:t>
            </a: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.  See if you can spot the clue words in the following stor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685800"/>
            <a:ext cx="914400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Last Tuesday I met my new friend Mickey.  We were both in a ball game at recess.  I told him he had made a good catch during the game.  Later that day we played in a softball game.  We were on the same team and we wo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401760"/>
            <a:ext cx="914400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Last Tuesday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 I met my new friend Mickey.  We were both in a ball game at recess.  I told him he had made a good catch during the game.  </a:t>
            </a: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Later that day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 we played in a softball game.  We were on the same team and we wo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02:26:47Z</dcterms:created>
  <dc:creator>Resource User</dc:creator>
  <dc:description/>
  <dc:language>en-US</dc:language>
  <cp:lastModifiedBy>student</cp:lastModifiedBy>
  <dcterms:modified xsi:type="dcterms:W3CDTF">2010-07-15T18:29:37Z</dcterms:modified>
  <cp:revision>2</cp:revision>
  <dc:subject/>
  <dc:title>PowerPoint Presentation</dc:title>
</cp:coreProperties>
</file>