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4CC-1AF5-4D82-9CA5-AC373E1E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D05-FF4F-4376-BB87-4B3166C4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44B-83AF-44E1-8E2B-666BECAE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B98-C6F9-4B49-A308-789A3014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C92-C3C6-4FBA-B8F3-27376A36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748-D415-4082-B983-238875BA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F91-34BA-4873-BC11-F1BEE67D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1F7-6120-4867-9CB3-923AC639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033-0172-46FA-8269-C2569DF6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4DB-FBE7-4A9F-B8C9-6B48CAA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66F-1E86-439E-865B-E5677E0F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784-7347-4E34-BC6E-52902826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FB85-AEE5-4559-88D4-50000FC16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762120" y="137160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Be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Sequ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Detectiv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fter the game, we traded some baseball cards, and then he said he wanted to ask me something.  After he finished talking, we walked to the bus st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 the game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, we traded some baseball cards, and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n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he said he wanted to ask me something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he finished talking, we walked to the bus st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The next morning, I was able to answer his question.  My parents said that I would go to his family’s apartment to have dinner with him on his birthday, December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 next morning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, I was able to answer his question.  My parents said that I would go to his family’s apartment to have dinner with him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on his birthday, December 6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85800" y="6858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 is the order in which events happen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6858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Certain words can be </a:t>
            </a: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 clues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5800" y="685800"/>
            <a:ext cx="792468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Time-Order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fir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nex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fina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60948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Time-Order Expre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in the mo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ft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ater that 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wo weeks l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60948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Other Tim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yester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Satur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pr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win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295280"/>
            <a:ext cx="9144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w be a </a:t>
            </a: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sequence detective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.  See if you can spot the clue words in the following stor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68580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Last Tuesday I met my new friend Mickey.  We were both in a ball game at recess.  I told him he had made a good catch during the game.  Later that day we played in a softball game.  We were on the same team and we w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40176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st Tuesday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I met my new friend Mickey.  We were both in a ball game at recess.  I told him he had made a good catch during the game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ter that day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we played in a softball game.  We were on the same team and we w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2:26:47Z</dcterms:created>
  <dc:creator>Resource User</dc:creator>
  <dc:description/>
  <dc:language>en-US</dc:language>
  <cp:lastModifiedBy>student</cp:lastModifiedBy>
  <dcterms:modified xsi:type="dcterms:W3CDTF">2010-07-15T18:29:37Z</dcterms:modified>
  <cp:revision>2</cp:revision>
  <dc:subject/>
  <dc:title>PowerPoint Presentation</dc:title>
</cp:coreProperties>
</file>